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23.png" ContentType="image/png"/>
  <Override PartName="/ppt/media/image22.png" ContentType="image/png"/>
  <Override PartName="/ppt/media/image4.wmf" ContentType="image/x-wmf"/>
  <Override PartName="/ppt/media/image20.png" ContentType="image/png"/>
  <Override PartName="/ppt/media/image2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24.wmf" ContentType="image/x-wmf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74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644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88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74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644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88880" y="1469880"/>
            <a:ext cx="8928000" cy="681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74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644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88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74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644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88880" y="1469880"/>
            <a:ext cx="8928000" cy="681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6640" indent="-11664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640" indent="-116640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6640" indent="-11664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12040"/>
            <a:ext cx="3657600" cy="360360"/>
          </a:xfrm>
          <a:prstGeom prst="rect">
            <a:avLst/>
          </a:prstGeom>
          <a:gradFill rotWithShape="0">
            <a:gsLst>
              <a:gs pos="0">
                <a:srgbClr val="00003c"/>
              </a:gs>
              <a:gs pos="100000">
                <a:srgbClr val="00001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P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stituto Peruano de Econom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657600" y="6510240"/>
            <a:ext cx="6248520" cy="360360"/>
          </a:xfrm>
          <a:prstGeom prst="rect">
            <a:avLst/>
          </a:prstGeom>
          <a:gradFill rotWithShape="0">
            <a:gsLst>
              <a:gs pos="0">
                <a:srgbClr val="d20000"/>
              </a:gs>
              <a:gs pos="100000">
                <a:srgbClr val="3b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Arial Narrow"/>
              </a:rPr>
              <a:t>Inversiones en el marco de los tratados de integración al mun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396360" y="6551640"/>
            <a:ext cx="560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9C7F-92C4-44A4-A637-3B497167F46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88880" y="1484280"/>
            <a:ext cx="892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8880" y="2997360"/>
            <a:ext cx="892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5589720"/>
            <a:ext cx="3506760" cy="72360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IP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stituto Peruano de Econom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89440" y="6224760"/>
            <a:ext cx="35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www.ipe.org.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007640"/>
            <a:ext cx="9144000" cy="188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Inversiones en el marco de los tratados de integración al mund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55320" y="3276360"/>
            <a:ext cx="921996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fffff"/>
                </a:solidFill>
                <a:latin typeface="Arial"/>
              </a:rPr>
              <a:t>Sociedad de Comercio Exterior del Perú – COMEXPERU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oro: Inversio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Jueves, 22 de Julio de 2004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9800" y="274680"/>
            <a:ext cx="970596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Mayores desventajas competitivas: instituciones, ICT, laboral, distribución internacional, educación e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0280" y="1590840"/>
            <a:ext cx="8305560" cy="10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Índice de Competitividad para el Crecimiento (ICC)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a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Ambiente macroeconó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fianza del público en los polític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Instituciones 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dependencia judici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Tecnolo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laboración universidad-empresa en investigació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asto de las compañías en I&amp;D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iorización del gobierno de ICT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Éxito del gobierno en la promoción de ICT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Índice de Competitividad Empresarial (ICE)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Sofisticación de las operaciones y estrategia de la compañ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mplitud de la compensación con incentiv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trol de la distribución internacion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asto de las compañías en I&amp;D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Calidad del ambiente de negocios n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lidad de la educación en matemáticas y cienci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lidad de la infraestructura de transporte aére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dependencia judici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7040" y="608328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s: World Economic Forum (Global Competitiveness Report 2003-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Universo 102 países, se tomó el cuartil inferior / 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Universo 95 países, se tomó el cuartil inf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9840" y="274680"/>
            <a:ext cx="90010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fraestructura básica, una que el IPE contribuyó a document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7040" y="6251400"/>
            <a:ext cx="873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nte: Instituto Peruano de Econom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93720" y="1560600"/>
            <a:ext cx="6697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echa total de inversión en infraestructura bá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27000" y="1878120"/>
            <a:ext cx="8043840" cy="43084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8520" y="274680"/>
            <a:ext cx="89218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..los políticos y algunos empresaurios se siguen encargando de empeo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7040" y="609300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PAL, Ministerio de Obras Pública (Chile), Ministerio de Transportes y Comunicaciones (Perú) e Instituto Peruano de Econom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606680"/>
            <a:ext cx="439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en transporte en Per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millones de US$ consta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1606680"/>
            <a:ext cx="4419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en transporte en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millones de US$ consta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29200" y="2044800"/>
            <a:ext cx="4419720" cy="4048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80880" y="2044800"/>
            <a:ext cx="4394160" cy="40482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2880" y="260280"/>
            <a:ext cx="92887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¿No les parece mal seguir promoviendo la informalidad, que ya es la quinta mayor del mundo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523880"/>
            <a:ext cx="4495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Tiempo necesario para abrir un nego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dí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625320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anco Mundial (Doing Business Database, 2004)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1523880"/>
            <a:ext cx="4495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lexibilidad para despedir trabaj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índice, 100 = mayor rigide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28760" y="2085840"/>
            <a:ext cx="4495680" cy="4118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010120" y="2082960"/>
            <a:ext cx="4495680" cy="41176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¿No les parece una pésima idea seguir maltratando a los pocos que investigan al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Red Iberoamericana de Indicadores de Ciencia y Tecnología (2002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Brasil, Costa Rica y Honduras: 2000; Portugal, Chile, Panamá, México y Trinidad &amp; Tobago: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574640"/>
            <a:ext cx="4647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nversión en investigación y desarrollo, 2002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1554120"/>
            <a:ext cx="4572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erú: inversión en investigación y 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419360" cy="4047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4572000" cy="42022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4840" y="274680"/>
            <a:ext cx="89215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AFTA y la inversión en México: los acuerdos comerciales no son una bala de p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41400" y="1523880"/>
            <a:ext cx="61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lujo neto de inversión extranjera dire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n porcentaje del PBI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7040" y="609588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2040" indent="-662040"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anco Mundial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ry, Lederman, Maloney y Servén, Lessons form NAFTA for Latin American and Caribbean Countries, 2003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295280" y="2016000"/>
            <a:ext cx="7315200" cy="3941640"/>
            <a:chOff x="1295280" y="2016000"/>
            <a:chExt cx="7315200" cy="3941640"/>
          </a:xfrm>
        </p:grpSpPr>
        <p:grpSp>
          <p:nvGrpSpPr>
            <p:cNvPr id="170" name=""/>
            <p:cNvGrpSpPr/>
            <p:nvPr/>
          </p:nvGrpSpPr>
          <p:grpSpPr>
            <a:xfrm>
              <a:off x="1295280" y="2016000"/>
              <a:ext cx="7315200" cy="3941640"/>
              <a:chOff x="1295280" y="2016000"/>
              <a:chExt cx="7315200" cy="3941640"/>
            </a:xfrm>
          </p:grpSpPr>
          <p:pic>
            <p:nvPicPr>
              <p:cNvPr id="17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2045880"/>
                <a:ext cx="7315200" cy="391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2"/>
              <a:srcRect l="599" t="0" r="0" b="541"/>
              <a:stretch/>
            </p:blipFill>
            <p:spPr>
              <a:xfrm>
                <a:off x="1295280" y="2027160"/>
                <a:ext cx="5791320" cy="27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569960" y="2016000"/>
                <a:ext cx="104760" cy="115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1752480" y="2263680"/>
              <a:ext cx="4876920" cy="1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6858000" y="2070000"/>
              <a:ext cx="1670040" cy="218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74840" y="274680"/>
            <a:ext cx="89215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gue siendo imprescindible tener las cosas claras y asentar el desarrollo en institu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7040" y="6249960"/>
            <a:ext cx="873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co Central de Chile, Larroulet (Libre comercio, desarrollo y TLC con EEUU, Marzo 2004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41400" y="1523880"/>
            <a:ext cx="61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hile: stock de inversión extranjera dire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en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iles de millones de US$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293840" y="1928880"/>
            <a:ext cx="7316640" cy="4336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estro país le conviene integrarse al mundo. De eso, sólo dudan mercas y otros despist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1160" y="1600200"/>
            <a:ext cx="96519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nto la evidencia empírica como desarrollos teóricos, recientes o no, sugieren que a economías pequeñas y pobres, como la nuestra, les conviene integrarse al mundo. A países que, como el nuestro, carecen de instituciones, la integración les conviene aún má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TLC (EE.UU., Tailandia, ¿Europa, China e India?) son sólo vehículos para la integración al mundo. El ALCA (light) sería mejor para nosotros, la OMC mejor aún. No están, sin embargo, disponibles. Nos conviene aprovechar la coyuntura: desviación de comercio, elecciones y TP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mos sentados en la mesa porque producimos hoja de coca, la región andina es aún menos estable políticamente que nuestro país y tenemos gas. Además, porque EE.UU. quiere aislar a Brasil y enfrentar a otros bloques económicos, China y la Indi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ncipales beneficios potenciales asociados al TL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cierran algunas reglas con candado y se proveen incentivos para que se adopten refor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ceso al mercado más grande del mundo: principal socio (particularmente para no tradicionales), 18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ncipales riesgos potenciales asociados al TL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ro tradicional: aún no tenemos mecanismos compensatorios, no adoptamos reformas y tenemos instituciones débiles (INRENA, INIA, PRONAMACHS, ¿SENASA? y gremi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rcantilistas y sus juegos de suma c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42720" y="1752480"/>
            <a:ext cx="92199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IPEopin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IPEopinion@ipe.org.p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915080" y="4788000"/>
            <a:ext cx="761760" cy="533160"/>
          </a:xfrm>
          <a:prstGeom prst="ellipse">
            <a:avLst/>
          </a:prstGeom>
          <a:solidFill>
            <a:srgbClr val="fa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7960" y="3479760"/>
            <a:ext cx="762120" cy="533520"/>
          </a:xfrm>
          <a:prstGeom prst="ellipse">
            <a:avLst/>
          </a:prstGeom>
          <a:solidFill>
            <a:srgbClr val="fa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</a:rPr>
              <a:t>Nuestra economía representa el 0.2-0.3% de la mundial. ¿Con quién hacemos negocios? ¿A quién pateam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25320" y="2409840"/>
            <a:ext cx="8670960" cy="3948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28480" y="62784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FMI (World Economic Outlook, abril 2004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5360" y="1523880"/>
            <a:ext cx="8915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articipación de algunas economías en el PBI mundial,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s del tot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5960" y="2100240"/>
            <a:ext cx="4108320" cy="4899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Verdana"/>
              </a:rPr>
              <a:t>Participación basada en el valor del PBI en dólares corrien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100240"/>
            <a:ext cx="4132440" cy="4899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Verdana"/>
              </a:rPr>
              <a:t>Participación basada en el valor del PBI usando la paridad del poder adquisitiv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880" y="274320"/>
            <a:ext cx="929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Usualmente decimos que hemos perdido sólo tres décadas: otra muestra de nuestro aisl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CRP; Alan Heston, Robert Summers y Bettina Aten (Versión 6.1 Penn World Table, Center for International Comparisons at the University of Pennsylvania - CICUP, Octubre 2002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360" y="1574640"/>
            <a:ext cx="4305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erú: PBI per cápita, 1950-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miles de Nuevos Soles de 199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574640"/>
            <a:ext cx="4305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BI per cápita algunos países, 1950-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miles de US$ de 199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043600" y="2025720"/>
            <a:ext cx="4495680" cy="4118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4360" y="2023920"/>
            <a:ext cx="4495680" cy="41180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Nuestra desintegración del mundo y la integración de otros parecidos: una causa del retraso (relati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MI; BCRP; Alan Heston, Robert Summers y Bettina Aten (Versión 6.1 Penn World Table, Center for International Comparisons at the University of Pennsylvania - CICUP, Octubre 2002);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5360" y="1574640"/>
            <a:ext cx="4457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Grado de apertura comercial, 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comercio exterior 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76920" y="1574640"/>
            <a:ext cx="4724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Grado de apertura algunos países, 1950-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comercio en porcentaje del PBI, en US$ de 199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4505400" cy="4125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3520" y="2203560"/>
            <a:ext cx="4343400" cy="397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Algunas leyendas urbanas (y rurales) acerca del comercio: EE.UU., México y los subsidios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562040"/>
            <a:ext cx="89535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oyo gubernamental estimado al productor agrícol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porcentaje del valor bruto de la producción agrícol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OECD (Agricultural policies 2004 at a glance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36560" y="2108160"/>
            <a:ext cx="8443800" cy="4220640"/>
            <a:chOff x="736560" y="2108160"/>
            <a:chExt cx="8443800" cy="422064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rcRect l="2178" t="9467" r="1089" b="18649"/>
            <a:stretch/>
          </p:blipFill>
          <p:spPr>
            <a:xfrm>
              <a:off x="1141200" y="2122200"/>
              <a:ext cx="803916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rot="16200000">
              <a:off x="4546440" y="2158560"/>
              <a:ext cx="927000" cy="74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. Zelan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stral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lo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urquí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nad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EU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éx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. Che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ap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sland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rueg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iz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6560" y="4305240"/>
              <a:ext cx="2057400" cy="290880"/>
            </a:xfrm>
            <a:prstGeom prst="wedgeRectCallout">
              <a:avLst>
                <a:gd name="adj1" fmla="val -22078"/>
                <a:gd name="adj2" fmla="val 102532"/>
              </a:avLst>
            </a:prstGeom>
            <a:solidFill>
              <a:srgbClr val="cddcd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54000" bIns="540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S$ miles de millones, 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93760" y="2108160"/>
              <a:ext cx="42670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162920" y="5562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Chomsky, sus pares nacionales, las falacias de la globalización y la inequidad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549440"/>
            <a:ext cx="887724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as viviendo con menos de un dólar por dí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gún la paridad del poder adquisitivo, a precios de 1985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19440" y="2195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66640" y="2220840"/>
            <a:ext cx="8805960" cy="3875040"/>
            <a:chOff x="566640" y="2220840"/>
            <a:chExt cx="8805960" cy="3875040"/>
          </a:xfrm>
        </p:grpSpPr>
        <p:pic>
          <p:nvPicPr>
            <p:cNvPr id="118" name="BlobServer" descr=""/>
            <p:cNvPicPr/>
            <p:nvPr/>
          </p:nvPicPr>
          <p:blipFill>
            <a:blip r:embed="rId1"/>
            <a:srcRect l="0" t="16475" r="0" b="3823"/>
            <a:stretch/>
          </p:blipFill>
          <p:spPr>
            <a:xfrm>
              <a:off x="566640" y="2220840"/>
              <a:ext cx="8805960" cy="38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6654960" y="2311560"/>
              <a:ext cx="2590560" cy="24372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En % de la población mund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5040" y="2324160"/>
              <a:ext cx="1447920" cy="24372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Miles de mill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4762440"/>
              <a:ext cx="129528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ticip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99200" y="3492360"/>
              <a:ext cx="160020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les de mill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American Economic Review (Bourguignon y Morrison, 2002), Banco Mundial, Bhalla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algunas opiniones coincidentes bastante mejor fundament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9220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s economías abiertas crecen más rápid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s países ricos son más proteccionistas que los países pobre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libre comercio aumenta la pobreza en el Tercer Mund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proteccionismo agrícola en los países ricos aumenta la pobreza globa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s países pobres no deberían abrir sus mercados si es que los países ricos mantienen sus barreras al comerci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 hay ‘Desarrollo’ en la Agenda de Desarrollo de Doha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 Organización Mundial de Comercio perjudica a los países pobre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libre comercio es malo para el medio ambient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Panagariya, Arvind (“Think again: international trade”, Foreign Policy, diciembre 2003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2880" y="274680"/>
            <a:ext cx="93600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El retroceso de la inversión también es más marcado de lo que sugieren las comparaciones histór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7040" y="6058080"/>
            <a:ext cx="87328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s: BCRP, UNCTAD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Índice = (IED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IED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/(PBI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PBI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, p = país, g = glob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1606680"/>
            <a:ext cx="4537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privada e 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25960" y="1606680"/>
            <a:ext cx="460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Índice de desempeño de la IED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ubicación en el ranking, orden invers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2043000"/>
            <a:ext cx="4419720" cy="4048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4419720" cy="40464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1640" y="260280"/>
            <a:ext cx="9001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competitividad y la equivocada actitud de algunos “empresario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1549440"/>
            <a:ext cx="44956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volución del ICE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y sus 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puesto en el ra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6070680"/>
            <a:ext cx="899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World Economic Forum (Global Competitiveness Report 2003-2004)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Índice de Competitividad Empresarial / </a:t>
            </a: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Índice de Competitividad para el Crec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-451440" y="356508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ayor competi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35040" y="295884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1549440"/>
            <a:ext cx="44956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volución del ICC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y sus 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puesto en el ra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96880" y="2003400"/>
            <a:ext cx="4343400" cy="3978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016600" y="2003400"/>
            <a:ext cx="4352760" cy="39862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22:07:03Z</dcterms:created>
  <dc:creator>Pavel Hernández B.</dc:creator>
  <dc:description/>
  <dc:language>en-US</dc:language>
  <cp:lastModifiedBy>Pavel Hernández Bracamonte</cp:lastModifiedBy>
  <dcterms:modified xsi:type="dcterms:W3CDTF">2004-07-21T23:26:56Z</dcterms:modified>
  <cp:revision>186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773177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/>
  </property>
</Properties>
</file>